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E143-BB06-4454-8C7F-D328D998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A3F-8F89-42D7-B6EF-EF39BE53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C22-14FA-4424-A6C5-8F778606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B81-C854-4CDF-853A-ED2AD057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49C-A989-45CE-B529-9BBB221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4CE-BADE-4D88-AFD7-C6256234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F60-C831-454A-861A-842566F6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E000-9119-4A69-AEBC-457567F6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8BB-C288-4A90-B0FD-1EEFAC3F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DE2-2ECE-4475-9285-A389A63A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876-6D2F-4EF8-A95D-A569FA5C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B13E-4AE2-4B8D-97F3-2C1E3B2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C8E-A53E-405A-9873-CE30F5108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forizmov.net/anekdoty/tags/kursanty/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6694560" cy="30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3886200"/>
            <a:ext cx="67690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закончилась войн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вно с войны пришли сол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груди их ордена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рят, как памятные даты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м всем, кто вынес ту войну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тылу иль на полях сражений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ес победную весну, —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лон и память поко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C:\Users\User\Desktop\B7GFO.jpg"/>
          <p:cNvPicPr/>
          <p:nvPr/>
        </p:nvPicPr>
        <p:blipFill>
          <a:blip r:embed="rId1"/>
          <a:stretch/>
        </p:blipFill>
        <p:spPr>
          <a:xfrm>
            <a:off x="1763640" y="549360"/>
            <a:ext cx="6696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0560" y="620280"/>
            <a:ext cx="57610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ина Михайловна бодрая, энергичная. Женщина живёт строго по режиму, очень любит порядок. До сих пор занимается  домашними делами. Вот  что значит военная дисциплина! Она с ужасом вспоминает  те страшные времена и желает , чтобы мы всегда жили под мирным небом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844640"/>
            <a:ext cx="577044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нимаю что значит Побед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ветеранов, познавших все бед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рашной войны, уцелевших надежд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День Победы придёт неизбеж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ы про войну только в книгах чита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ьмы смотрели - и то замирал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ужасе, гневе и боли серд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 не в кино, а в бою до кон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смерть стояли, спасая свою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ну, город свой, дом и семь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е, что вам дорого, любо и свят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было в сердце любого солда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агодарить мы могли б неустан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е затянутся прошлого раны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дут не хвалебных речей ветера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чтобы память была постоянн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мни и ценим. Для нас вы - как звезд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р на Земле вашим подвигом созда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с поздравлять с Днём Победы готов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аздники, будни, все снова и снова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22 Июня 1941 4:00 часа ночи Объявление о Начале Великой Отечественной Войны. Помним, Любим и Скорбим! &quot; ok.ya1.ru"/>
          <p:cNvPicPr/>
          <p:nvPr/>
        </p:nvPicPr>
        <p:blipFill>
          <a:blip r:embed="rId1"/>
          <a:stretch/>
        </p:blipFill>
        <p:spPr>
          <a:xfrm>
            <a:off x="5508720" y="549360"/>
            <a:ext cx="2995560" cy="215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 Днем Победы. - Archnest.com"/>
          <p:cNvPicPr/>
          <p:nvPr/>
        </p:nvPicPr>
        <p:blipFill>
          <a:blip r:embed="rId2"/>
          <a:stretch/>
        </p:blipFill>
        <p:spPr>
          <a:xfrm>
            <a:off x="5522760" y="2997360"/>
            <a:ext cx="31528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Презентация на тему 1941-1945 гг. - презентация по истории скачать"/>
          <p:cNvPicPr/>
          <p:nvPr/>
        </p:nvPicPr>
        <p:blipFill>
          <a:blip r:embed="rId1"/>
          <a:stretch/>
        </p:blipFill>
        <p:spPr>
          <a:xfrm>
            <a:off x="1547640" y="549360"/>
            <a:ext cx="70567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05152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шёл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прополз всю войну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границы к Москве, до Берли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ожди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и на внучат и на сы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спомни всех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, с кем ты воев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то в окопах зимою и летом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гибал, побежд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л, смеялся, стреля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друзей хоронил на рассветах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пять полз на брюхе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ел, как уме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землянку и синий платоче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л про дружбу, про то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любимая ждё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 Победу, которой так хочеш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у, держись, ветеран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ы не смей умира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о в груди затихают куранты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ой окончен,совсем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последний салю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дают молодые </a:t>
            </a:r>
            <a:r>
              <a:rPr b="0" lang="ru-RU" sz="1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курсант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Великая Отечественная Война 1941-1945. (57 фото) Картинки со смыслом"/>
          <p:cNvPicPr/>
          <p:nvPr/>
        </p:nvPicPr>
        <p:blipFill>
          <a:blip r:embed="rId2"/>
          <a:stretch/>
        </p:blipFill>
        <p:spPr>
          <a:xfrm>
            <a:off x="5003640" y="404640"/>
            <a:ext cx="3384720" cy="2259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ФОТО Великая Отечественная война / Фото VOV_1941_1945_1000 (19).jpg"/>
          <p:cNvPicPr/>
          <p:nvPr/>
        </p:nvPicPr>
        <p:blipFill>
          <a:blip r:embed="rId3"/>
          <a:stretch/>
        </p:blipFill>
        <p:spPr>
          <a:xfrm>
            <a:off x="5021280" y="2924280"/>
            <a:ext cx="343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C:\Users\User\Desktop\Рисунок.jpg"/>
          <p:cNvPicPr/>
          <p:nvPr/>
        </p:nvPicPr>
        <p:blipFill>
          <a:blip r:embed="rId1"/>
          <a:stretch/>
        </p:blipFill>
        <p:spPr>
          <a:xfrm>
            <a:off x="2987640" y="1700280"/>
            <a:ext cx="3000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640" y="1557000"/>
            <a:ext cx="6213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еребрякова Фаина Михайловн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дилась 27 мая 1924 года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городе  Мамадыш Татарской АССР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-243000"/>
            <a:ext cx="6624720" cy="33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ю свою жизнь прожила в городе Мамадыш 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лась в школе №1,  закончила 10 класс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1943 году ушла на войну. До войны работала на тракторе и учётчиком   в кормовом пункте , где держали коров. Работа находилась на подсобном хозяйстве за рекой Вят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Государственные архивы РФ, хранящие фотодокументы о Великой Отечественной войне 1941-1945 гг. Сайт &quot;Победа. 1941-1945&quot;."/>
          <p:cNvPicPr/>
          <p:nvPr/>
        </p:nvPicPr>
        <p:blipFill>
          <a:blip r:embed="rId1"/>
          <a:stretch/>
        </p:blipFill>
        <p:spPr>
          <a:xfrm>
            <a:off x="2700360" y="2708280"/>
            <a:ext cx="46465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70563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 время работы в 1943 году пришла повестка из  военкомата. На тот момент девушке было 19 лет. Позже переправилась на пароме через Вятку домой, там жила с неродной матерью.  Отца расстреляли как  врага народа, в последствии репрессировали. На следующей день она пошла с повесткой в военкомат. С ней было еще 8 девчат с разных деревень, их  отправили в Казань, затем  в Чистополь,  где они  прошли комисс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212240" cy="27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ина Михайловна попала в  1-й дивизион. Так как она уже занималась военной подготовкой в Мамадыше, её отправили в Штат полка. Поручили возить секретные документы в Штат, проработала 1 месяц. Позже её и еще  1 девушку отправили учиться на радистов, проучились 1 месяц,  и отправили их в 5 дивизион. После, была направлена на фронт на Западную Украину, затем в Польшу и Бер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460836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684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йну встретили в Германии. После войны познакомилась с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удущем мужем - Александром. Он тоже был участником войны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шёл всю войну до победного конца , был награждён «Орденом красной звезды». Родили и воспитали четверых детей – Надежду, Виктора, Нину и Юрия.  Долгое время были счастливы, но одна за одной последовали  потери.  Сначала умер муж,  потом старший сын, затем после тяжелой болезни умирает  дочь. На сегодняшний день Фаина Михайловна  живёт с младшим сыном, а  дочь Нина проживает в Москве, но с внуками часто приезжает в Мамадыш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2987640" y="3357720"/>
            <a:ext cx="3745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79280" y="1268280"/>
            <a:ext cx="62643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году Фаине Михайловне исполнилось  90 лет.  Дочь хотела забрать её в Москву, но Фаина Михайловна не хочет уезжать из родного кра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Оксана</cp:lastModifiedBy>
  <dcterms:modified xsi:type="dcterms:W3CDTF">2015-01-30T06:37:38Z</dcterms:modified>
  <cp:revision>12</cp:revision>
  <dc:subject/>
  <dc:title>Слайд 1</dc:title>
</cp:coreProperties>
</file>